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9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5618-2A51-4E00-AD40-EBDEC90F6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FE08-7F38-4208-8221-CC24ABA13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8A33-AD75-434C-A31F-FA2893FD1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AADD-81E0-4040-BE70-B24C5660A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BF25E-3F60-4778-98A6-022618BE5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6A1B3-07EC-434B-9E01-3EDD4CCEB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800DC-5DD9-4260-867B-298198AB1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6C461-D234-45B1-BD1C-3796B20D1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52783-CC6B-48FD-8FC8-66128A2FE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F180A-FFF4-4C83-8C3E-860AA9348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933AA-D2F4-403A-98ED-624474375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C555-64D9-4399-AA6D-8DD7A3CDF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65A01-ED00-4B6A-AD79-B180B9383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FADBC-5A36-4323-ADF9-F3FE0B463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5E80E-AA57-4906-A4BA-4D10BC4E9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CB7AE-8E38-403D-A1D1-C61D44F8F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05D2E-92B3-49F8-A3D7-912C84F80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DA0D-BED2-4B51-A29C-261E80D27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F8D6-1F5E-4406-99A6-62A4BFAB3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AA37-ABC4-4D8A-9E06-347A4A8A5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52A8-3967-4862-9B35-6E8A7ADEA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9E6C-2F71-4B5E-AA7A-6A3F31F9E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8BE9-C312-45F8-9509-8C997016B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72B7-ECF3-40E3-BBB3-125490351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A7F98-8BCA-4881-8596-8076F2526ACE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0B74D-A9D0-4D0D-BF1B-00834D7122A5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000000"/>
                </a:solidFill>
                <a:latin typeface="Calibri"/>
              </a:rPr>
              <a:t>IMIR 2007-2013</a:t>
            </a:r>
            <a:br>
              <a:rPr sz="3600"/>
            </a:br>
            <a:r>
              <a:rPr b="1" lang="hu-HU" sz="3600" spc="-1" strike="noStrike">
                <a:solidFill>
                  <a:srgbClr val="000000"/>
                </a:solidFill>
                <a:latin typeface="Calibri"/>
              </a:rPr>
              <a:t>Monitoring és Információs Rendszer</a:t>
            </a:r>
            <a:r>
              <a:rPr b="0" lang="hu-HU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898989"/>
                </a:solidFill>
                <a:latin typeface="Calibri"/>
              </a:rPr>
              <a:t>A 4. pályázati kiírás online pályázati moduljának bemutatás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ŰRLAPOK\Főadat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zövegdoboz 7"/>
          <p:cNvSpPr/>
          <p:nvPr/>
        </p:nvSpPr>
        <p:spPr>
          <a:xfrm>
            <a:off x="5429160" y="1714680"/>
            <a:ext cx="3571920" cy="36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ŐADAT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OJEKT CÍ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ifejező, nem túl hossz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RÖVID CÍ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ax 25 karak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IORITÁ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itöltéséhez szükséges a pályázati útmutató ismer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OJECT DU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rojekt időtartama &gt;/=24 hóna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"/>
          <p:cNvPicPr/>
          <p:nvPr/>
        </p:nvPicPr>
        <p:blipFill>
          <a:blip r:embed="rId1"/>
          <a:stretch/>
        </p:blipFill>
        <p:spPr>
          <a:xfrm>
            <a:off x="142920" y="1785960"/>
            <a:ext cx="520524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ŰRLAPOK\Partnersé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zövegdoboz 7"/>
          <p:cNvSpPr/>
          <p:nvPr/>
        </p:nvSpPr>
        <p:spPr>
          <a:xfrm>
            <a:off x="5429160" y="1643040"/>
            <a:ext cx="3571920" cy="31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ADAT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RÉSZLET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artner adatainak megtekinté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ODIF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artner adatainak módosít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artner törlé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Ú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új partner hozzáadása a partner típusának megválasztásáv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214960" cy="2168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"/>
          <p:cNvPicPr/>
          <p:nvPr/>
        </p:nvPicPr>
        <p:blipFill>
          <a:blip r:embed="rId2"/>
          <a:stretch/>
        </p:blipFill>
        <p:spPr>
          <a:xfrm>
            <a:off x="714240" y="2786040"/>
            <a:ext cx="338148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ŰRLAPOK\Partnerség\Azonosít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zövegdoboz 7"/>
          <p:cNvSpPr/>
          <p:nvPr/>
        </p:nvSpPr>
        <p:spPr>
          <a:xfrm>
            <a:off x="6500880" y="1643040"/>
            <a:ext cx="250020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70c0"/>
                </a:solidFill>
                <a:latin typeface="Arial"/>
              </a:rPr>
              <a:t>PARTNER ADATA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ípus, név, cím, adószám, elérhetősé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70c0"/>
                </a:solidFill>
                <a:latin typeface="Arial"/>
              </a:rPr>
              <a:t>PROJEKTRE VONATKOZÓ PARTNERADAT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Jogi státusz (közjogi, központi, magánjogi), alkalmazottak száma, levelezési cí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mennyiben nem biztos valamely adatok tartalmában, kérjük használja a pályázati útmutatót illetve az IMIR kézikönyv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6213600" cy="42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ŰRLAPOK\Partnerség\Képviselő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171360" y="1714680"/>
            <a:ext cx="6213600" cy="4214520"/>
          </a:xfrm>
          <a:prstGeom prst="rect">
            <a:avLst/>
          </a:prstGeom>
          <a:ln w="0">
            <a:noFill/>
          </a:ln>
        </p:spPr>
      </p:pic>
      <p:sp>
        <p:nvSpPr>
          <p:cNvPr id="116" name="Szövegdoboz 7"/>
          <p:cNvSpPr/>
          <p:nvPr/>
        </p:nvSpPr>
        <p:spPr>
          <a:xfrm>
            <a:off x="6500880" y="1714680"/>
            <a:ext cx="250020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APCSOLATTART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év, pozíció, e-mail, elérhetősé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ÖRVÉNYES KÉPVISEL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törvényes képviselő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év, pozíció, e-mail, elérhetősé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70c0"/>
                </a:solidFill>
                <a:latin typeface="Arial"/>
              </a:rPr>
              <a:t>ALAPÍTÓ SZERVEZ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bban az esetben kell kitölteni, ha a Partner egy másik szervezet közvetlen irányítása alatt működik. (pl. a megye által működtetett középiskola stb. esetében a megyei önkormányza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zövegdoboz 7"/>
          <p:cNvSpPr/>
          <p:nvPr/>
        </p:nvSpPr>
        <p:spPr>
          <a:xfrm>
            <a:off x="6000840" y="1000080"/>
            <a:ext cx="300024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LÉTSZÁM / PROJEKTMEGVALÓSÍTÁSI TAPASZTALAT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információk a partner korábbi projektirányítási tapasztalatairól (Projektcím, költségvetés, részvétel típusa stb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70c0"/>
                </a:solidFill>
                <a:latin typeface="Arial"/>
              </a:rPr>
              <a:t>UTOLSÓ LEZÁRT ÜZLETI É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artner utolsó üzleti évére vonatkozó információk (bevétel, kiadás, eredmény stb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R. MEGVALÓSÍTÁSÁNAK HELYSZÍ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alamennyi helyszín, ahol a projektet vagy annak bizonyos részeit végrehajtják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BANKSZÁMLÁ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rojekt végrehajtása szempontjából releváns bankszámlá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5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791320" cy="3929040"/>
          </a:xfrm>
          <a:prstGeom prst="rect">
            <a:avLst/>
          </a:prstGeom>
          <a:ln w="0">
            <a:noFill/>
          </a:ln>
        </p:spPr>
      </p:pic>
      <p:sp>
        <p:nvSpPr>
          <p:cNvPr id="119" name="Szövegdoboz 6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ŰRLAPOK\Partnerség\Üzleti adat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zövegdoboz 5"/>
          <p:cNvSpPr/>
          <p:nvPr/>
        </p:nvSpPr>
        <p:spPr>
          <a:xfrm>
            <a:off x="71280" y="1181160"/>
            <a:ext cx="6000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Együttműködési kritériumo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zövegdoboz 7"/>
          <p:cNvSpPr/>
          <p:nvPr/>
        </p:nvSpPr>
        <p:spPr>
          <a:xfrm>
            <a:off x="6000840" y="1746360"/>
            <a:ext cx="300024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z együttműködés szintje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zös projektfejleszté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zös projektvégrehajtá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rojektvégrehajtás közös finanszíroz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zös projektszemélyz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álassza ki az egyik kritériumot úgy, hogy rákattint, majd válassza ki a baloldalon található </a:t>
            </a: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Érték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ező legördülő listájának egyik elemét, és magyarázza vagy indokolja a választást a </a:t>
            </a: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Leírás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mezőben. Ismételje meg a folyamatot valamennyi kritérium eseté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"/>
          <p:cNvPicPr/>
          <p:nvPr/>
        </p:nvPicPr>
        <p:blipFill>
          <a:blip r:embed="rId1"/>
          <a:stretch/>
        </p:blipFill>
        <p:spPr>
          <a:xfrm>
            <a:off x="142920" y="1781280"/>
            <a:ext cx="5724360" cy="37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zövegdoboz 5"/>
          <p:cNvSpPr/>
          <p:nvPr/>
        </p:nvSpPr>
        <p:spPr>
          <a:xfrm>
            <a:off x="2857680" y="428760"/>
            <a:ext cx="60004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Projekt leíráso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zövegdoboz 7"/>
          <p:cNvSpPr/>
          <p:nvPr/>
        </p:nvSpPr>
        <p:spPr>
          <a:xfrm>
            <a:off x="6143760" y="1000080"/>
            <a:ext cx="28573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PROJECT DESCRIP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(projektleírá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alamennyi témáról részletes, összefüggő leírásokat kell adn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ax. karakterszám: 2000 + 2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Szövegdoboz 6" descr=""/>
          <p:cNvPicPr/>
          <p:nvPr/>
        </p:nvPicPr>
        <p:blipFill>
          <a:blip r:embed="rId1"/>
          <a:stretch/>
        </p:blipFill>
        <p:spPr>
          <a:xfrm>
            <a:off x="133200" y="4492800"/>
            <a:ext cx="8913960" cy="16160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"/>
          <p:cNvPicPr/>
          <p:nvPr/>
        </p:nvPicPr>
        <p:blipFill>
          <a:blip r:embed="rId2"/>
          <a:stretch/>
        </p:blipFill>
        <p:spPr>
          <a:xfrm>
            <a:off x="214200" y="1071720"/>
            <a:ext cx="5929560" cy="33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zövegdoboz 5"/>
          <p:cNvSpPr/>
          <p:nvPr/>
        </p:nvSpPr>
        <p:spPr>
          <a:xfrm>
            <a:off x="71280" y="1181160"/>
            <a:ext cx="6000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Célok és tevékenysége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zövegdoboz 10"/>
          <p:cNvSpPr/>
          <p:nvPr/>
        </p:nvSpPr>
        <p:spPr>
          <a:xfrm>
            <a:off x="5500800" y="1643040"/>
            <a:ext cx="321444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PROJEKT TEVÉKENYSÉGEINEK LISTÁJ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tevékenységek kapcsán az alábbi adatokat kell megadn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é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Felelős part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gyéb a megvalósításba bevont part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tevékenység leír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ockázat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onatkozó periódus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ervezett költsé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(segít annak azonosításában, hogy az adott tevékenység megfelelő arányt képvisel-e a projekten belü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6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214960" cy="11714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"/>
          <p:cNvPicPr/>
          <p:nvPr/>
        </p:nvPicPr>
        <p:blipFill>
          <a:blip r:embed="rId2"/>
          <a:stretch/>
        </p:blipFill>
        <p:spPr>
          <a:xfrm>
            <a:off x="285840" y="2214720"/>
            <a:ext cx="4429080" cy="37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zövegdoboz 10"/>
          <p:cNvSpPr/>
          <p:nvPr/>
        </p:nvSpPr>
        <p:spPr>
          <a:xfrm>
            <a:off x="6286680" y="1714680"/>
            <a:ext cx="271440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70c0"/>
                </a:solidFill>
                <a:latin typeface="Arial"/>
              </a:rPr>
              <a:t>Finanszírozási forrás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rojektszintű költségveté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partnerszintű költségveté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artnertábláz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ltségvetési fül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Költségvetési fül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álasztott partner társfinanszírozási forrása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álasztott partner részletes költségveté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álasztott partner költségeinek ütemezé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zövegdoboz 6"/>
          <p:cNvSpPr/>
          <p:nvPr/>
        </p:nvSpPr>
        <p:spPr>
          <a:xfrm>
            <a:off x="71280" y="1181160"/>
            <a:ext cx="6000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Költségveté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5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6021360" cy="31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zövegdoboz 6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Választott partner részletes költségvetés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6286680" y="1553760"/>
            <a:ext cx="2643120" cy="37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>
              <a:lnSpc>
                <a:spcPts val="2599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  <a:ea typeface="Calibri"/>
              </a:rPr>
              <a:t>Előkészítő költség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ts val="2599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  <a:ea typeface="Calibri"/>
              </a:rPr>
              <a:t>Személyi költsé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ts val="2599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  <a:ea typeface="Calibri"/>
              </a:rPr>
              <a:t>Útiköltség és alapellátmány (napidíj és szállá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ts val="2599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  <a:ea typeface="Calibri"/>
              </a:rPr>
              <a:t>Szolgáltatás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ts val="2599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  <a:ea typeface="Calibri"/>
              </a:rPr>
              <a:t>Beszerzések (Eszközö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ts val="2599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  <a:ea typeface="Calibri"/>
              </a:rPr>
              <a:t>Építési beruházá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ts val="2599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  <a:ea typeface="Calibri"/>
              </a:rPr>
              <a:t>Rezsi, működési és adminisztratív költség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1"/>
          <a:stretch/>
        </p:blipFill>
        <p:spPr>
          <a:xfrm>
            <a:off x="142920" y="1857240"/>
            <a:ext cx="6116760" cy="31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zövegdoboz 5"/>
          <p:cNvSpPr/>
          <p:nvPr/>
        </p:nvSpPr>
        <p:spPr>
          <a:xfrm>
            <a:off x="428760" y="1344600"/>
            <a:ext cx="7715160" cy="37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IMIR pályázati elektronikus felü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Magyar nyelvű kitöltési felül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https://www.doc.imis2007-2013.hu/elementafohu1/app/elementahusk.jn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Szlovák nyelvű kitöltési felül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https://www.doc.imis2007-2013.hu/elementafosk1/app/elementahusk.jn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A pályázatot két nyelven kell kitölteni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a megnyitott felület nyelvétől függetlenü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Kérjük tanulmányozzák az IMIR 2007-2013 Front Office Felhasználói Kézikönyvet, amely megtalálható a pályázati felhívás mellékletei közöt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zövegdoboz 6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Költségvetés\Utazás és alapellátmán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7" descr=""/>
          <p:cNvPicPr/>
          <p:nvPr/>
        </p:nvPicPr>
        <p:blipFill>
          <a:blip r:embed="rId1"/>
          <a:stretch/>
        </p:blipFill>
        <p:spPr>
          <a:xfrm>
            <a:off x="1071720" y="1643040"/>
            <a:ext cx="7832520" cy="32860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8" descr=""/>
          <p:cNvPicPr/>
          <p:nvPr/>
        </p:nvPicPr>
        <p:blipFill>
          <a:blip r:embed="rId2"/>
          <a:stretch/>
        </p:blipFill>
        <p:spPr>
          <a:xfrm>
            <a:off x="357120" y="3357720"/>
            <a:ext cx="6215040" cy="26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zövegdoboz 6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Költségvetés\Utazás és alapellátmán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zövegdoboz 10"/>
          <p:cNvSpPr/>
          <p:nvPr/>
        </p:nvSpPr>
        <p:spPr>
          <a:xfrm>
            <a:off x="6215040" y="1571760"/>
            <a:ext cx="271476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Szolgáltatások (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Beszerzések (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költségvetési sorok alatt harmadik szintű költségvetési alsorokat talál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ható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amelyeknek nincs pontos nev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bben az esetben Önnek kell eldöntenie, hogy a költségvetési alsorok közül mennyire van szüksége, és hogyan szeretné kiadásait csoportosítani a fenti számok alatt, hogy ezek a legérthetőbb logikát tükrözzé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072120" cy="25480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" descr=""/>
          <p:cNvPicPr/>
          <p:nvPr/>
        </p:nvPicPr>
        <p:blipFill>
          <a:blip r:embed="rId2"/>
          <a:stretch/>
        </p:blipFill>
        <p:spPr>
          <a:xfrm>
            <a:off x="142920" y="3357720"/>
            <a:ext cx="4819680" cy="20224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" descr=""/>
          <p:cNvPicPr/>
          <p:nvPr/>
        </p:nvPicPr>
        <p:blipFill>
          <a:blip r:embed="rId3"/>
          <a:stretch/>
        </p:blipFill>
        <p:spPr>
          <a:xfrm>
            <a:off x="142920" y="4714920"/>
            <a:ext cx="3000240" cy="12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zövegdoboz 10"/>
          <p:cNvSpPr/>
          <p:nvPr/>
        </p:nvSpPr>
        <p:spPr>
          <a:xfrm>
            <a:off x="6286680" y="1643040"/>
            <a:ext cx="2714400" cy="27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Választott partner társfinanszírozási forrá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egyes mezők automatikusan számolódnak ki a partnerek jogi státuszának tükréb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mennyiben a szervezet bevételekre tesz szert a projektmegvalósítás során, úgy annak tervezett  mértékét itt kell megadn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5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6060960" cy="3143160"/>
          </a:xfrm>
          <a:prstGeom prst="rect">
            <a:avLst/>
          </a:prstGeom>
          <a:ln w="0">
            <a:noFill/>
          </a:ln>
        </p:spPr>
      </p:pic>
      <p:sp>
        <p:nvSpPr>
          <p:cNvPr id="147" name="Szövegdoboz 6"/>
          <p:cNvSpPr/>
          <p:nvPr/>
        </p:nvSpPr>
        <p:spPr>
          <a:xfrm>
            <a:off x="142920" y="1143000"/>
            <a:ext cx="65721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Költségvetés\Finanszírozási forráso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zövegdoboz 10"/>
          <p:cNvSpPr/>
          <p:nvPr/>
        </p:nvSpPr>
        <p:spPr>
          <a:xfrm>
            <a:off x="6286680" y="1643040"/>
            <a:ext cx="271440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előrejelzésre a program költségvetésének kifizetési ütemezésének megtervezéséhez van szüksé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megadott összegek tájékoztató jellegűek, azonban a tervezett ütemezéstől való jelentős eltérés esetén a program a pénzügyi kötelezettségvállalás visszavonásának tárgya leh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zövegdoboz 4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Költségvetés\Ütemezé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5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6060960" cy="3143160"/>
          </a:xfrm>
          <a:prstGeom prst="rect">
            <a:avLst/>
          </a:prstGeom>
          <a:ln w="0">
            <a:noFill/>
          </a:ln>
        </p:spPr>
      </p:pic>
      <p:sp>
        <p:nvSpPr>
          <p:cNvPr id="151" name="Téglalap 6"/>
          <p:cNvSpPr/>
          <p:nvPr/>
        </p:nvSpPr>
        <p:spPr>
          <a:xfrm>
            <a:off x="142920" y="4929120"/>
            <a:ext cx="885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70c0"/>
                </a:solidFill>
                <a:latin typeface="Arial"/>
              </a:rPr>
              <a:t>Ne feledje, hogy a programban a visszafizetés hosszú, kétszintű folyamat, vagyis 4-6 hónap is eltelhet a kifizetett számlák benyújtásától az ellenőrző testületeknek addig, míg az ERFA támogatás összege kifizetésre kerü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zövegdoboz 10"/>
          <p:cNvSpPr/>
          <p:nvPr/>
        </p:nvSpPr>
        <p:spPr>
          <a:xfrm>
            <a:off x="6286680" y="1643040"/>
            <a:ext cx="2714400" cy="34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Indikátor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program által meghatározott mutatók, és az Ön saját projekt-specifikus mutatói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A MÓDOSÍT gombra kattint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beállíthatja alapértéküket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célértéküket és kiválaszthatja megvalósításuk időszaká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Kötel.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szlop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JTS által kötelezővé tett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tat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Ha nincs bejelölés, Öntől függ, hogy szeretné-e a használni a projekt során (releváns-e a projekt szempontjából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zövegdoboz 4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Indikátoro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5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095880" cy="35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zövegdoboz 10"/>
          <p:cNvSpPr/>
          <p:nvPr/>
        </p:nvSpPr>
        <p:spPr>
          <a:xfrm>
            <a:off x="6286680" y="142920"/>
            <a:ext cx="2714400" cy="31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elada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on kommunikációs eszközök kiválasztása az előre meghatározott listából, amelyek használatát tervezi a projekt végrehajtása sorá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Egyéb olyan kommunikációs eszköz leírása az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Egyéb eszközök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ezőben, amelyek használatát tervezi, de amelyek nem jelennek meg az előre meghatározott listáb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zövegdoboz 6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Kommunikációs eszközö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6" descr=""/>
          <p:cNvPicPr/>
          <p:nvPr/>
        </p:nvPicPr>
        <p:blipFill>
          <a:blip r:embed="rId1"/>
          <a:stretch/>
        </p:blipFill>
        <p:spPr>
          <a:xfrm>
            <a:off x="214200" y="1643040"/>
            <a:ext cx="2857680" cy="28764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"/>
          <p:cNvPicPr/>
          <p:nvPr/>
        </p:nvPicPr>
        <p:blipFill>
          <a:blip r:embed="rId2"/>
          <a:stretch/>
        </p:blipFill>
        <p:spPr>
          <a:xfrm>
            <a:off x="3214800" y="3416400"/>
            <a:ext cx="574344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Szövegdoboz 10"/>
          <p:cNvSpPr/>
          <p:nvPr/>
        </p:nvSpPr>
        <p:spPr>
          <a:xfrm>
            <a:off x="6215040" y="1643040"/>
            <a:ext cx="271476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projekt megvalósításához szükséges engedélyek listáj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engedély adata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ípu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leírá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ngedély kiadásának időpontja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ngedély érvényességének vég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zonosító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zövegdoboz 4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Engedélye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5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97204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zövegdoboz 10"/>
          <p:cNvSpPr/>
          <p:nvPr/>
        </p:nvSpPr>
        <p:spPr>
          <a:xfrm>
            <a:off x="4286160" y="1643040"/>
            <a:ext cx="421488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Táblázatos formában elkészített ellenőrzőlis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kérdések automatikusan kitöltésre kerülnek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ályázónak Igen/Nem választ kell adnia a jelölőnégyzetre kattint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érjük, menjen végig a lista valamennyi elemén, különben a rendszer hibát jelez az Ellenőrzési riportb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zövegdoboz 6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Ellenőrző list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5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4091040" cy="38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zövegdoboz 10"/>
          <p:cNvSpPr/>
          <p:nvPr/>
        </p:nvSpPr>
        <p:spPr>
          <a:xfrm>
            <a:off x="6215040" y="1643040"/>
            <a:ext cx="278604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oknak a mellékleteknek a listája, amelyeket a pályázattal együtt kell benyújtani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Itt látható a melléklet száma és címe, hogy kötelező-e vagy sem, és hogy milyen módon kell beküldeni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egjelölheti, hogy az adott mellékletet csatolta vagy elküld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5" descr=""/>
          <p:cNvPicPr/>
          <p:nvPr/>
        </p:nvPicPr>
        <p:blipFill>
          <a:blip r:embed="rId1"/>
          <a:stretch/>
        </p:blipFill>
        <p:spPr>
          <a:xfrm>
            <a:off x="142920" y="1666800"/>
            <a:ext cx="5929200" cy="4303800"/>
          </a:xfrm>
          <a:prstGeom prst="rect">
            <a:avLst/>
          </a:prstGeom>
          <a:ln w="0">
            <a:noFill/>
          </a:ln>
        </p:spPr>
      </p:pic>
      <p:sp>
        <p:nvSpPr>
          <p:cNvPr id="167" name="Szövegdoboz 6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Melléklete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zövegdoboz 5"/>
          <p:cNvSpPr/>
          <p:nvPr/>
        </p:nvSpPr>
        <p:spPr>
          <a:xfrm>
            <a:off x="71280" y="118116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DOKUMENTUMO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zövegdoboz 10"/>
          <p:cNvSpPr/>
          <p:nvPr/>
        </p:nvSpPr>
        <p:spPr>
          <a:xfrm>
            <a:off x="5286240" y="1571760"/>
            <a:ext cx="357192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FELTÖLTÉS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gomb segítségével csatolhatja a pályázathoz a szükséges támogató dokumentumoka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LÉTREHOZ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gomb használatával a rendszer 4 dokumentumot állít elő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Pályázati lap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Partnerségi nyilatkoza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VP nyilatkozat HU/S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Valamennyi dokumentum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.pdf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 formátumban érhető el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A generált dokumentumokat a rendszer automatikusan lementi és megjeleníti a táblázatban. Ezeket ki is nyomtathatj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A létrehozott dokumentumok az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DOKUMENTUMOK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 fülben bármikor lekérhetőe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5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4786200" cy="43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zövegdoboz 5"/>
          <p:cNvSpPr/>
          <p:nvPr/>
        </p:nvSpPr>
        <p:spPr>
          <a:xfrm>
            <a:off x="428760" y="1344600"/>
            <a:ext cx="7715160" cy="35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IMIR pályázati elektronikus felü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Papír alapon csak - az eredeti aláírásokkal ellátott – mellékleteket kell benyújtani (pl. Vezető Partner nyilatkozata, Partnerségi nyilatkozat, fenntartható fejlődést biztosító intézkedések, stb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pályázati űrlapot szintén nem szükséges kinyomtatni. Az elektronikus formában elérhető mellékletek és egyéb támogató dokumentumok szintén feltölthetőek az elektronikus felületen keresztü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pályázati modul elérhető a honlapunkon a pályázati kiírás oldalán: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www.husk-cbc.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zövegdoboz 5"/>
          <p:cNvSpPr/>
          <p:nvPr/>
        </p:nvSpPr>
        <p:spPr>
          <a:xfrm>
            <a:off x="1500120" y="121428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A pályázat benyújtásának folyamat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églalap 6"/>
          <p:cNvSpPr/>
          <p:nvPr/>
        </p:nvSpPr>
        <p:spPr>
          <a:xfrm>
            <a:off x="214200" y="1619280"/>
            <a:ext cx="871560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Regisztráció és bejelnetkez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szükséges adatok felvite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ellenőrzése (</a:t>
            </a:r>
            <a:r>
              <a:rPr b="0" i="1" lang="sk-SK" sz="1600" spc="-1" strike="noStrike">
                <a:solidFill>
                  <a:srgbClr val="000000"/>
                </a:solidFill>
                <a:latin typeface="Arial"/>
              </a:rPr>
              <a:t>ELLENŐRZÉS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+ A hiányzó adatok feltöltése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végső ellenőrzése (</a:t>
            </a:r>
            <a:r>
              <a:rPr b="0" i="1" lang="sk-SK" sz="1600" spc="-1" strike="noStrike">
                <a:solidFill>
                  <a:srgbClr val="000000"/>
                </a:solidFill>
                <a:latin typeface="Arial"/>
              </a:rPr>
              <a:t>ELLENŐRZÉS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 – eredmény: Sikeres ellenőrz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Dokumentumok feltöltése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- A pályázathoz szükséges dokumentumok elektornikus  változatának feltölté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végleges dokumentumainak létrehozása (</a:t>
            </a:r>
            <a:r>
              <a:rPr b="0" i="1" lang="sk-SK" sz="1600" spc="-1" strike="noStrike">
                <a:solidFill>
                  <a:srgbClr val="000000"/>
                </a:solidFill>
                <a:latin typeface="Arial"/>
              </a:rPr>
              <a:t>LÉTREHOZ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elektronikus benyújtása a JTS felé (</a:t>
            </a:r>
            <a:r>
              <a:rPr b="0" i="1" lang="sk-SK" sz="1600" spc="-1" strike="noStrike">
                <a:solidFill>
                  <a:srgbClr val="000000"/>
                </a:solidFill>
                <a:latin typeface="Arial"/>
              </a:rPr>
              <a:t>BENYÚJTÁS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sk-SK" sz="1600" spc="-1" strike="noStrike" u="sng">
                <a:solidFill>
                  <a:srgbClr val="000000"/>
                </a:solidFill>
                <a:uFillTx/>
                <a:latin typeface="Arial"/>
              </a:rPr>
              <a:t>Időszakos ellenőrzések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– az </a:t>
            </a:r>
            <a:r>
              <a:rPr b="0" i="1" lang="sk-SK" sz="1600" spc="-1" strike="noStrike">
                <a:solidFill>
                  <a:srgbClr val="000000"/>
                </a:solidFill>
                <a:latin typeface="Arial"/>
              </a:rPr>
              <a:t>ELLENŐTZÉS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gomb segítségével bármikor ellenőrizheti a pályázat hiányzó adata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sk-SK" sz="1600" spc="-1" strike="noStrike" u="sng">
                <a:solidFill>
                  <a:srgbClr val="000000"/>
                </a:solidFill>
                <a:uFillTx/>
                <a:latin typeface="Arial"/>
              </a:rPr>
              <a:t>Dokumentumok megtekintése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– A pályázat adatainak feltöltése során bármikor a </a:t>
            </a:r>
            <a:r>
              <a:rPr b="0" i="1" lang="sk-SK" sz="1600" spc="-1" strike="noStrike">
                <a:solidFill>
                  <a:srgbClr val="000000"/>
                </a:solidFill>
                <a:latin typeface="Arial"/>
              </a:rPr>
              <a:t>LÉTREHOZ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 gombra kattintva létrehozhatja és megtekintheti a pályázati formanyomtatványt .pdf formátumba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zövegdoboz 5"/>
          <p:cNvSpPr/>
          <p:nvPr/>
        </p:nvSpPr>
        <p:spPr>
          <a:xfrm>
            <a:off x="1571760" y="2071800"/>
            <a:ext cx="61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Calibri"/>
              </a:rPr>
              <a:t>Sikeres pályázást kívánok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églalap 6"/>
          <p:cNvSpPr/>
          <p:nvPr/>
        </p:nvSpPr>
        <p:spPr>
          <a:xfrm>
            <a:off x="285840" y="3286080"/>
            <a:ext cx="871524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HU-SK JOINT TECHNICAL SECRETARI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Holop Szilvesz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rogrammanadzs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szholop@vati.h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www.husk-cbc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zövegdoboz 5"/>
          <p:cNvSpPr/>
          <p:nvPr/>
        </p:nvSpPr>
        <p:spPr>
          <a:xfrm>
            <a:off x="428760" y="1281240"/>
            <a:ext cx="7715160" cy="46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Rendszerkövetelmény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Internet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kapcsol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Operációs rendszer: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icrosoft Windows XP/Vista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Egyéb szoftvere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Microsoft Office/Open Off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Adobe Reader/Pdf 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Java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legújabb verzi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(Innen letölthető: </a:t>
            </a:r>
            <a:r>
              <a:rPr b="0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http://www.java.com/en/download/index.jsp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Internetböngésző: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 Internet Explorer 6.0 vagy újabb verzió/ Mozilla Firefox 3.0 vagy újabb verzi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zövegdoboz 5"/>
          <p:cNvSpPr/>
          <p:nvPr/>
        </p:nvSpPr>
        <p:spPr>
          <a:xfrm>
            <a:off x="214200" y="121428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Bejelentkez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zövegdoboz 3"/>
          <p:cNvSpPr/>
          <p:nvPr/>
        </p:nvSpPr>
        <p:spPr>
          <a:xfrm>
            <a:off x="214200" y="368136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Regisztráci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zövegdoboz 7"/>
          <p:cNvSpPr/>
          <p:nvPr/>
        </p:nvSpPr>
        <p:spPr>
          <a:xfrm>
            <a:off x="4929120" y="1793880"/>
            <a:ext cx="3929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elh. név: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bármi, ami megjegyezhet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(pl. a szervezet nev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 rendszer 5-10 perc múlva elküldi a jelszót, amely 1 óráig érvény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Bejelentkezés után meg kell változtatnia jelszavá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Olyan új jelszót kell választania, amely legalább 8 karakter hosszú, 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kis- és nagybetűket, valamint számokat is tartalmaz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Elfelejtett jelszó esetén a rendszer által generált új jelszó max. 1 órán át érvényes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1" descr=""/>
          <p:cNvPicPr/>
          <p:nvPr/>
        </p:nvPicPr>
        <p:blipFill>
          <a:blip r:embed="rId1"/>
          <a:stretch/>
        </p:blipFill>
        <p:spPr>
          <a:xfrm>
            <a:off x="285840" y="1714680"/>
            <a:ext cx="4451400" cy="17856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2" descr=""/>
          <p:cNvPicPr/>
          <p:nvPr/>
        </p:nvPicPr>
        <p:blipFill>
          <a:blip r:embed="rId2"/>
          <a:stretch/>
        </p:blipFill>
        <p:spPr>
          <a:xfrm>
            <a:off x="285840" y="4143240"/>
            <a:ext cx="445140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zövegdoboz 5"/>
          <p:cNvSpPr/>
          <p:nvPr/>
        </p:nvSpPr>
        <p:spPr>
          <a:xfrm>
            <a:off x="71280" y="118116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Üdvözlő felü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zövegdoboz 7"/>
          <p:cNvSpPr/>
          <p:nvPr/>
        </p:nvSpPr>
        <p:spPr>
          <a:xfrm>
            <a:off x="5572080" y="1071720"/>
            <a:ext cx="3214800" cy="48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Pályázat létrehozás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új pályázat összeállítá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indig ellenőrizze a View Applications menüpont alatt, hogy van-e már megkezdett pályázat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Pályázat folytatás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folytathatja a pályázatához szükséges adatok bevitelé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ályázat kitöltése bármikor megszakítható – a rögzített adatok nem törlődn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ennyiben már benyújtotta pályázatát, a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z má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öbbé nem módosíthat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Pályázat hiánypótlása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módosíthatja azokat a pályázatokat, amelyeket a JTS kiegészítés vagy módosítás céljából visszaküldött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"/>
          <p:cNvPicPr/>
          <p:nvPr/>
        </p:nvPicPr>
        <p:blipFill>
          <a:blip r:embed="rId1"/>
          <a:stretch/>
        </p:blipFill>
        <p:spPr>
          <a:xfrm>
            <a:off x="142920" y="1785960"/>
            <a:ext cx="519264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zövegdoboz 5"/>
          <p:cNvSpPr/>
          <p:nvPr/>
        </p:nvSpPr>
        <p:spPr>
          <a:xfrm>
            <a:off x="3000240" y="4287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A pályázat adatainak feltölté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zövegdoboz 7"/>
          <p:cNvSpPr/>
          <p:nvPr/>
        </p:nvSpPr>
        <p:spPr>
          <a:xfrm>
            <a:off x="5429160" y="1285920"/>
            <a:ext cx="3571920" cy="45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ejléc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lapbeállítás szerint üres, inaktí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ésőbb, automatikusan töltődik k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Gombok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TÖRLÉS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- az egész pályázatot törli, és teljes adatvesztéshez vez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ELLENŐRZÉS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- a rendszer előre meghatározott, beépített algoritmusok és szabályok alapján ellenőrzi a pályázat tartalmá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TOVÁBB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– sikeres ellenőrzés után a benyújtás folytat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BENYÚJTÁS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– az ellenőrzött és megfelelően kitöltött pályázat benyújt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KILÉPÉS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– a képernyő elhagyása (valamennyi adat automatikusan mentésre kerü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"/>
          <p:cNvPicPr/>
          <p:nvPr/>
        </p:nvPicPr>
        <p:blipFill>
          <a:blip r:embed="rId1"/>
          <a:stretch/>
        </p:blipFill>
        <p:spPr>
          <a:xfrm>
            <a:off x="142920" y="1270080"/>
            <a:ext cx="521496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zövegdoboz 5"/>
          <p:cNvSpPr/>
          <p:nvPr/>
        </p:nvSpPr>
        <p:spPr>
          <a:xfrm>
            <a:off x="2857680" y="357120"/>
            <a:ext cx="52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A pályázat adatainak feltölté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zövegdoboz 7"/>
          <p:cNvSpPr/>
          <p:nvPr/>
        </p:nvSpPr>
        <p:spPr>
          <a:xfrm>
            <a:off x="5429160" y="1285920"/>
            <a:ext cx="3571920" cy="43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ÜL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ÁTTEKINTÉ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egjeleníti a pályázat legfontosabb általános és pénzügyi adatait. Valamennyi mező inaktív, adatbevitelre itt nincs lehetősé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ŰRLAP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Leírja és részletezi a tervezett projektet. A táblázat soraihoz ún. alképernyők tartoznak, amelyek a projekt különböző részeire vonatkozna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DOKUMENTUM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Dokumentumok feltöltésére és létrehozására szolgá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"/>
          <p:cNvPicPr/>
          <p:nvPr/>
        </p:nvPicPr>
        <p:blipFill>
          <a:blip r:embed="rId1"/>
          <a:stretch/>
        </p:blipFill>
        <p:spPr>
          <a:xfrm>
            <a:off x="142920" y="1285920"/>
            <a:ext cx="521496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zövegdoboz 5"/>
          <p:cNvSpPr/>
          <p:nvPr/>
        </p:nvSpPr>
        <p:spPr>
          <a:xfrm>
            <a:off x="3000240" y="4287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Űrlap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zövegdoboz 7"/>
          <p:cNvSpPr/>
          <p:nvPr/>
        </p:nvSpPr>
        <p:spPr>
          <a:xfrm>
            <a:off x="5429160" y="1285920"/>
            <a:ext cx="3571920" cy="18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ÜL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RÉSZLET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z adatok áttekintését teszi lehetővé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ÓDOSÍ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z adatok szerkesztését, módosítását teszi lehetővé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"/>
          <p:cNvPicPr/>
          <p:nvPr/>
        </p:nvPicPr>
        <p:blipFill>
          <a:blip r:embed="rId1"/>
          <a:stretch/>
        </p:blipFill>
        <p:spPr>
          <a:xfrm>
            <a:off x="142920" y="1285920"/>
            <a:ext cx="521496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5T13:22:11Z</dcterms:created>
  <dc:creator>holopszilveszter</dc:creator>
  <dc:description/>
  <dc:language>en-US</dc:language>
  <cp:lastModifiedBy>holopszilveszter</cp:lastModifiedBy>
  <dcterms:modified xsi:type="dcterms:W3CDTF">2011-08-30T15:05:53Z</dcterms:modified>
  <cp:revision>52</cp:revision>
  <dc:subject/>
  <dc:title>1. dia</dc:title>
</cp:coreProperties>
</file>